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E93-4C4B-46F2-AB95-61102372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050-F155-413A-8E71-6C4EB72F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B5A-E72B-4E41-AE09-C7D0F243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6EE-AE98-4612-8C9C-B070BD02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1A2-9917-4D26-9C2F-61B6E890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19B-FB29-40AB-8252-B3BF601C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96A-7561-42D7-A2DB-CBB4DF7C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A87-A59B-4674-8CD2-35366A0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468-6DE4-4AB1-B479-0052CB33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E8F-5FE4-4495-ACDD-8B3BB94F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E88-368B-47AB-9CAC-CF2BD278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867-159B-446D-A645-3E196080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1492-0F29-4727-B7EA-F55B2F608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Black and White WSU Logo"/>
          <p:cNvPicPr/>
          <p:nvPr/>
        </p:nvPicPr>
        <p:blipFill>
          <a:blip r:embed="rId1"/>
          <a:stretch/>
        </p:blipFill>
        <p:spPr>
          <a:xfrm>
            <a:off x="5445000" y="298440"/>
            <a:ext cx="1154160" cy="91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60600" y="165240"/>
            <a:ext cx="373536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IOLOGY RESEARCH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LUB</a:t>
            </a:r>
            <a:endParaRPr b="0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logo_300_RGB.jpg"/>
          <p:cNvPicPr/>
          <p:nvPr/>
        </p:nvPicPr>
        <p:blipFill>
          <a:blip r:embed="rId6"/>
          <a:stretch/>
        </p:blipFill>
        <p:spPr>
          <a:xfrm>
            <a:off x="5810400" y="8110440"/>
            <a:ext cx="885600" cy="787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thumbnail of small NSF logo in color "/>
          <p:cNvPicPr/>
          <p:nvPr/>
        </p:nvPicPr>
        <p:blipFill>
          <a:blip r:embed="rId7"/>
          <a:stretch/>
        </p:blipFill>
        <p:spPr>
          <a:xfrm>
            <a:off x="195120" y="193680"/>
            <a:ext cx="927360" cy="90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520" y="1808280"/>
            <a:ext cx="340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ARE YOU  A 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JUN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OR A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SENIO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080" y="1436760"/>
            <a:ext cx="3025800" cy="1447560"/>
          </a:xfrm>
          <a:prstGeom prst="cloudCallout">
            <a:avLst>
              <a:gd name="adj1" fmla="val 91657"/>
              <a:gd name="adj2" fmla="val 16337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8680" y="5692680"/>
            <a:ext cx="398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Thursday, September 2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fter school at 3:20 pm in Mr. DeVries’ classro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G-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6880" y="7007400"/>
            <a:ext cx="5991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PONS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rs. DeVries, Mrs. Pringle-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cience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r. Dustin L. Weber: dlweber1@wichita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raduate Student, GK-12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200600">
            <a:off x="916920" y="5368680"/>
            <a:ext cx="147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eting Time an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163400">
            <a:off x="904680" y="5400360"/>
            <a:ext cx="1722240" cy="992160"/>
          </a:xfrm>
          <a:custGeom>
            <a:avLst/>
            <a:gdLst>
              <a:gd name="textAreaLeft" fmla="*/ 0 w 1722240"/>
              <a:gd name="textAreaRight" fmla="*/ 1722600 w 17222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632480" y="1440000"/>
            <a:ext cx="1404720" cy="162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480" y="3141720"/>
            <a:ext cx="574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eal college research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uild up your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ravel opportunities to scientific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ink between high school-college-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Problem solv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xplore your own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ield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98920" y="4827600"/>
            <a:ext cx="3911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Papyrus"/>
              </a:rPr>
              <a:t>SCIENCE IS FUN!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Papyrus"/>
              </a:rPr>
              <a:t>COME AND JOIN THE 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51120" y="8515440"/>
            <a:ext cx="487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Wichita State University, Biology Department- NSF GK-12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Pass Me The Salt / Pasame La S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-1803240" y="5224320"/>
            <a:ext cx="4537080" cy="40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6ff33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NORTH WEST HIGH SCHOOL</a:t>
            </a:r>
            <a:endParaRPr b="0" lang="en-US" sz="2800" spc="1" strike="noStrike">
              <a:ln w="9360">
                <a:solidFill>
                  <a:srgbClr val="66ff33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7724880"/>
            <a:ext cx="8352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07:32Z</dcterms:created>
  <dc:creator>Owner</dc:creator>
  <dc:description/>
  <dc:language>en-US</dc:language>
  <cp:lastModifiedBy>Marks Lab</cp:lastModifiedBy>
  <dcterms:modified xsi:type="dcterms:W3CDTF">2006-09-22T04:33:58Z</dcterms:modified>
  <cp:revision>18</cp:revision>
  <dc:subject/>
  <dc:title>Slide 1</dc:title>
</cp:coreProperties>
</file>